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52D-DA71-4F5C-951E-0FDFA681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B2B3-B009-47AF-8A70-317A3C55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A852-134F-4AC3-B6F0-78721C66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35A-2F2E-44EB-B6BB-4327BBD4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979F-574F-46CC-B26C-C7535325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B5C-0DCB-4BCB-9A7A-DFF19299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AD52-BA05-49B7-8B5D-69228637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6C05-753A-4569-8F42-F719DEAF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E66-36A0-44F8-9E72-1FC92ABE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4EC8-34DB-419E-A127-9B185699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D923-BF91-4DFF-875E-9FA5B39E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FE40-60DD-484F-9B22-4DAB0DB1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8F35-78FA-4683-B22E-5569BE035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reedieting.com/tools/calorie_calculator.htm" TargetMode="External"/><Relationship Id="rId2" Type="http://schemas.openxmlformats.org/officeDocument/2006/relationships/hyperlink" Target="http://calorielab.com/restaurants/mcdonalds/1" TargetMode="External"/><Relationship Id="rId3" Type="http://schemas.openxmlformats.org/officeDocument/2006/relationships/hyperlink" Target="http://calorielab.com/restaurants/a-and-w/96" TargetMode="External"/><Relationship Id="rId4" Type="http://schemas.openxmlformats.org/officeDocument/2006/relationships/hyperlink" Target="http://calorielab.com/restaurants/burger-king/3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"/>
              </a:rPr>
              <a:t>Calori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nkGothic Lt BT"/>
              </a:rPr>
              <a:t>By Rachel K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Calories add up f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Watch what you 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Make healthy choi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Be act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omic"/>
              </a:rPr>
              <a:t>Think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57600" y="4114800"/>
            <a:ext cx="1816200" cy="14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reedieting.com/tools/calorie_calculator.ht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alorielab.com/restaurants/mcdonalds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alorielab.com/restaurants/a-and-w/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alorielab.com/restaurants/burger-king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Do you even know what a calorie 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Calories measure energy, heat energy in particula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One calorie is the energy you need to heat one gram of water by one degree Celsi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When you eat more calories than you can use, your body will store them as fa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This fat is a pa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76680" y="350640"/>
            <a:ext cx="9829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Like McDonalds for breakfast?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Sausage Egg McMuffi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42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Hash Brow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136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ffe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: 538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McDonald’s Trust"/>
          <p:cNvPicPr/>
          <p:nvPr/>
        </p:nvPicPr>
        <p:blipFill>
          <a:blip r:embed="rId1"/>
          <a:stretch/>
        </p:blipFill>
        <p:spPr>
          <a:xfrm>
            <a:off x="3962520" y="1846440"/>
            <a:ext cx="4876560" cy="36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Some A &amp; W for lu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Mozza Burg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5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Root Be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88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"/>
              </a:rPr>
              <a:t>TOTAL : 1448 CALORI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808200"/>
            <a:ext cx="2057400" cy="94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Burger King for sup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Whopper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67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k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20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 : 1230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1813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533520" y="4114800"/>
            <a:ext cx="1021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That all adds up to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McDonald’s Trust"/>
          <p:cNvPicPr/>
          <p:nvPr/>
        </p:nvPicPr>
        <p:blipFill>
          <a:blip r:embed="rId1"/>
          <a:stretch/>
        </p:blipFill>
        <p:spPr>
          <a:xfrm>
            <a:off x="-762120" y="0"/>
            <a:ext cx="4876920" cy="363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124080" y="1219320"/>
            <a:ext cx="3581640" cy="164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781680" y="990720"/>
            <a:ext cx="21448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0880" y="304920"/>
            <a:ext cx="8229600" cy="647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32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CAL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1357200"/>
            <a:ext cx="7924680" cy="5577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I took a few guess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ankGothic Lt BT"/>
              </a:rPr>
              <a:t>Mr. Brann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H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6 feet 2 i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W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190 pou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Active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3 times a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2152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the number of calories that Mr. Brannon should consume in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246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OVER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at 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A person who is active twice a day –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Mr. Brannon's fast food diet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exceeds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is amount by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52 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calo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could eat like this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had a highly physical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Were physically active at least once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7:47:23Z</dcterms:created>
  <dc:creator>rachel.kish</dc:creator>
  <dc:description/>
  <dc:language>en-US</dc:language>
  <cp:lastModifiedBy>rachel.kish</cp:lastModifiedBy>
  <dcterms:modified xsi:type="dcterms:W3CDTF">2009-03-13T18:16:52Z</dcterms:modified>
  <cp:revision>7</cp:revision>
  <dc:subject/>
  <dc:title>Calories</dc:title>
</cp:coreProperties>
</file>